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0C04-A23A-49FE-A1F1-4FC63F673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935C-341A-4B1F-83D1-BDC71801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8D37-109A-4F58-AB72-E2875542B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95D7-0F0F-4872-BDEC-EF4EA8526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370AB-479E-49D8-B8A3-61D9260A4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80B8-E65B-433E-96BF-2831F4FD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2BF99-0984-4DE9-B52B-3CFA03DC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7224-0AE5-45C3-886D-FEF4826C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CAD5-0719-45E6-9577-C849E4E3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91C48-A9AE-4147-BBF2-84E721CC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FDEC-C067-426D-939C-773DCFC6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3D21-9674-4B68-802A-143E7597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7B27C-A8BB-4F38-B8B0-0A756B9A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375F8-6B53-4A65-BD27-0AA53DFF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70411-C038-4028-8FDC-C7C4FE48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697B-A283-45FA-8450-776981B81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F863-48D1-4DD7-B10B-2B1FF759B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597E-68BB-4904-B79D-F4E20741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8C37-A7B5-4BA5-83AB-A8AC9F70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BC32-B73D-4DB1-8BCD-A597CF08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A803-6A30-45FC-A3AD-6F901584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31F4-188F-498E-BC45-0B844BDC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0AD0-9280-4B49-AB1B-0B549986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C2E9-13A4-4BEC-BBCB-EFC5C974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AF50-58FF-4019-B24D-D79D7738FD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B495-B497-4300-AAE7-8E984792D6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maichin@mineola.k12.ny.us" TargetMode="External"/><Relationship Id="rId2" Type="http://schemas.openxmlformats.org/officeDocument/2006/relationships/hyperlink" Target="mailto:wsmith@mineola.k12.ny.us" TargetMode="External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aimsweb.com/login.php" TargetMode="Externa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nrcld.org/" TargetMode="External"/><Relationship Id="rId2" Type="http://schemas.openxmlformats.org/officeDocument/2006/relationships/hyperlink" Target="http://www.ncld.org/" TargetMode="External"/><Relationship Id="rId3" Type="http://schemas.openxmlformats.org/officeDocument/2006/relationships/hyperlink" Target="http://www.nasdse.org/" TargetMode="External"/><Relationship Id="rId4" Type="http://schemas.openxmlformats.org/officeDocument/2006/relationships/hyperlink" Target="http://www.rtinetwork.org/" TargetMode="External"/><Relationship Id="rId5" Type="http://schemas.openxmlformats.org/officeDocument/2006/relationships/hyperlink" Target="http://www.aimsweb.com/" TargetMode="External"/><Relationship Id="rId6" Type="http://schemas.openxmlformats.org/officeDocument/2006/relationships/hyperlink" Target="http://www.interventioncentral.org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tI in the Secondary School Setting: Making it Work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43828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nnifer Maich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jmaichin@mineola.k12.ny.us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ttney Smit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wsmith@mineola.k12.ny.us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0" y="4952880"/>
            <a:ext cx="22860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Implementation: Part 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ucate the staff about what RtI i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A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it to fail” vs. R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rict Suppor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verage with New ID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 determining whether a child has a specific learning disability, a local educational agency may use a process that determines if the child responds to a scientific, research based intervention as part of the evaluation procedures”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IDEA 2004, Title 20, Section 1414, subsection b(6)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etting Stuck in Tier 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enario: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team has an IST meeting to discuss a student who is struggling in school.  A few strategies were brainstormed after a lengthy conversation about what the student can’t do.  Six weeks later, the team meets again and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5486400" y="3429000"/>
            <a:ext cx="220968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Strategy Development (Tier I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eacher Ownershi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vs. “Buy I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on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ote Faculty Meeting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ives from IST Mee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ers working in groups to brainstorm strateg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ed Out the ones that are not measur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e the collective strategies with the entire faculty &amp; bring them to IST Mee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ttach the strategies to resear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Implementation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94160" y="1905120"/>
            <a:ext cx="2057400" cy="2819160"/>
          </a:xfrm>
          <a:prstGeom prst="rtTriangl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2056680" y="1905120"/>
            <a:ext cx="2057400" cy="2819160"/>
          </a:xfrm>
          <a:prstGeom prst="rtTriangl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0" y="2286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er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52680" y="2286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er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495680" y="30481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er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00400" y="3048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er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0" y="3962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er I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124080" y="3962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er I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429000" y="28954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419720" y="28954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819520" y="37339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419720" y="37339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209680" y="51055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ool-w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5105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vidu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124080" y="472392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5257800" y="472392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95880" y="2057400"/>
            <a:ext cx="266724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Three Tier RTI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ff Development / Curriculum Writ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blem Solving Approach vs. Standard Treatment Protoc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eduling of IST Meet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920" y="2133720"/>
            <a:ext cx="25905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ter Schedule Chang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eduling of Committee Meet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5029200" y="1295280"/>
            <a:ext cx="3657600" cy="5334120"/>
          </a:xfrm>
          <a:prstGeom prst="rtTriangl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Implementation: Part II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304920" y="1295280"/>
            <a:ext cx="3657600" cy="5334120"/>
          </a:xfrm>
          <a:prstGeom prst="rtTriangl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315200" y="5334120"/>
            <a:ext cx="990720" cy="10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ier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IS / I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" y="4343400"/>
            <a:ext cx="266688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ier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chedul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grams (ROCK, Universal Screenings, DIG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tent Literac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LC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alkthrough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partment Meeting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943600" y="3048120"/>
            <a:ext cx="2666880" cy="20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ier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IS / IST (movement between tier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rategic Monitoring (monthl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ynamic Progra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sitive Reinforcement Pl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3048120"/>
            <a:ext cx="243828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ier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chedul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IS Tier I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mall group counsel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81480" y="1752480"/>
            <a:ext cx="175284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ier I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BA / BI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:1 Counsel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981080" y="1752480"/>
            <a:ext cx="198144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ier I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IS Tier II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gress Monitoring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05520" y="990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ivid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676520" y="9907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hool-w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438280" y="129528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715000" y="1295280"/>
            <a:ext cx="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160020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T 6 week follow-u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086600" y="16002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re Team Meeting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705720" y="1219320"/>
            <a:ext cx="1904760" cy="1371600"/>
          </a:xfrm>
          <a:prstGeom prst="irregularSeal2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1143000"/>
            <a:ext cx="1905120" cy="1371600"/>
          </a:xfrm>
          <a:prstGeom prst="irregularSeal2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ur Structure of Academic Support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6</a:t>
            </a:r>
            <a:r>
              <a:rPr b="1" lang="en-US" sz="2800" spc="-1" strike="noStrike" u="sng" baseline="30000">
                <a:solidFill>
                  <a:srgbClr val="ffffff"/>
                </a:solidFill>
                <a:uFillTx/>
                <a:latin typeface="Arial"/>
              </a:rPr>
              <a:t>th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Gr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uble ELA --- with a Reading Teach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uble Period Ma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7</a:t>
            </a:r>
            <a:r>
              <a:rPr b="1" lang="en-US" sz="2800" spc="-1" strike="noStrike" u="sng" baseline="30000">
                <a:solidFill>
                  <a:srgbClr val="ffffff"/>
                </a:solidFill>
                <a:uFillTx/>
                <a:latin typeface="Arial"/>
              </a:rPr>
              <a:t>th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Grad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dicated Period --- On-Target; AIS Math Tier II or III; AIS ELA Tier II or III; or any combin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8</a:t>
            </a:r>
            <a:r>
              <a:rPr b="1" lang="en-US" sz="2800" spc="-1" strike="noStrike" u="sng" baseline="30000">
                <a:solidFill>
                  <a:srgbClr val="ffffff"/>
                </a:solidFill>
                <a:uFillTx/>
                <a:latin typeface="Arial"/>
              </a:rPr>
              <a:t>th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Gr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dicated Period --- On-Target; AIS Math Tier II or III; AIS ELA Tier II or III; or any comb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715000" y="5867280"/>
            <a:ext cx="30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ter Schedule Change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see attachmen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457200" y="1143000"/>
            <a:ext cx="3657600" cy="5334120"/>
          </a:xfrm>
          <a:prstGeom prst="rtTriangle">
            <a:avLst/>
          </a:prstGeom>
          <a:solidFill>
            <a:srgbClr val="0099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029200" y="1143000"/>
            <a:ext cx="3657600" cy="5334120"/>
          </a:xfrm>
          <a:prstGeom prst="rtTriangle">
            <a:avLst/>
          </a:prstGeom>
          <a:solidFill>
            <a:srgbClr val="0099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Visual Representation of Tiers II &amp; III in 7</a:t>
            </a:r>
            <a:r>
              <a:rPr b="0" lang="en-US" sz="4000" spc="-1" strike="noStrike" baseline="30000">
                <a:solidFill>
                  <a:srgbClr val="ccec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and 8</a:t>
            </a:r>
            <a:r>
              <a:rPr b="0" lang="en-US" sz="4000" spc="-1" strike="noStrike" baseline="30000">
                <a:solidFill>
                  <a:srgbClr val="ccec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Grad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ay A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ading Tier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ading Tier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th Tier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th Tier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LA Tier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LA Tier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th Tier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th Tier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On-Tar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On-Targe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971800" y="2514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352680" y="259092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-6 stud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971800" y="419112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-14 stud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705720" y="5410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 stud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19520" y="1981080"/>
            <a:ext cx="533160" cy="1752840"/>
          </a:xfrm>
          <a:custGeom>
            <a:avLst/>
            <a:gdLst>
              <a:gd name="textAreaLeft" fmla="*/ 0 w 533160"/>
              <a:gd name="textAreaRight" fmla="*/ 192600 w 53316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362320" y="3657600"/>
            <a:ext cx="533160" cy="1600200"/>
          </a:xfrm>
          <a:custGeom>
            <a:avLst/>
            <a:gdLst>
              <a:gd name="textAreaLeft" fmla="*/ 0 w 533160"/>
              <a:gd name="textAreaRight" fmla="*/ 192600 w 53316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5334120"/>
            <a:ext cx="380880" cy="838080"/>
          </a:xfrm>
          <a:custGeom>
            <a:avLst/>
            <a:gdLst>
              <a:gd name="textAreaLeft" fmla="*/ 0 w 380880"/>
              <a:gd name="textAreaRight" fmla="*/ 137520 w 3808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5720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ay B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ading Tier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ading Tier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th Tier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th Tier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LA Tier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LA Tier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th Tier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th Tier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On-Tar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On-Targe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010280" y="2057400"/>
            <a:ext cx="533520" cy="1600200"/>
          </a:xfrm>
          <a:custGeom>
            <a:avLst/>
            <a:gdLst>
              <a:gd name="textAreaLeft" fmla="*/ 0 w 533520"/>
              <a:gd name="textAreaRight" fmla="*/ 192600 w 5335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477120" y="3657600"/>
            <a:ext cx="533160" cy="1600200"/>
          </a:xfrm>
          <a:custGeom>
            <a:avLst/>
            <a:gdLst>
              <a:gd name="textAreaLeft" fmla="*/ 0 w 533160"/>
              <a:gd name="textAreaRight" fmla="*/ 192600 w 53316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324480" y="5257800"/>
            <a:ext cx="381240" cy="838080"/>
          </a:xfrm>
          <a:custGeom>
            <a:avLst/>
            <a:gdLst>
              <a:gd name="textAreaLeft" fmla="*/ 0 w 381240"/>
              <a:gd name="textAreaRight" fmla="*/ 137520 w 38124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620120" y="25146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-6 stud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86600" y="419112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-14 stud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743200" y="556272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 stud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276720" y="1676520"/>
            <a:ext cx="11430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3504960" y="1676520"/>
            <a:ext cx="11430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dentification 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&amp;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gress Monitoring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2971800" y="327672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dentifi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A S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h Sc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er Recommend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al Scree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Ms We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mentary Articulation Meet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endance and Discipline Rec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IMS Web (Tracking Program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ding Curriculum Based Measurement (R-CB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er I – Universal Screen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Benchmarking 3x/yea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er II –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onthly progres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onito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er III – Progress Monitor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weekly / bi-monthl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F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h Concepts and Applications (M-CA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er I – Universal Screening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Benchmarking 3x/year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er II –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onthly strategi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onito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er III – Progress Monitor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weekly / bi-monthl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" descr="Summer and Fall Training Workshops"/>
          <p:cNvPicPr/>
          <p:nvPr/>
        </p:nvPicPr>
        <p:blipFill>
          <a:blip r:embed="rId1"/>
          <a:srcRect l="25345" t="0" r="6196" b="60451"/>
          <a:stretch/>
        </p:blipFill>
        <p:spPr>
          <a:xfrm>
            <a:off x="4419720" y="5943600"/>
            <a:ext cx="3200400" cy="70632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2209680" y="365760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553080" y="335268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50288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lbert Einstein once said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definition of insanity is doing the same thing over and over again and expecting different results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048120" y="380880"/>
            <a:ext cx="33336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486400" y="1039320"/>
            <a:ext cx="32004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ample AIMsWeb Data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8</a:t>
            </a:r>
            <a:r>
              <a:rPr b="0" lang="en-US" sz="4000" spc="-1" strike="noStrike" baseline="30000">
                <a:solidFill>
                  <a:srgbClr val="ccec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Grade Tier II AI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rcRect l="37595" t="33337" r="28126" b="10420"/>
          <a:stretch/>
        </p:blipFill>
        <p:spPr>
          <a:xfrm>
            <a:off x="152280" y="380880"/>
            <a:ext cx="54500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ample Student Benchmark Repor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rcRect l="19532" t="17709" r="14844" b="20835"/>
          <a:stretch/>
        </p:blipFill>
        <p:spPr>
          <a:xfrm>
            <a:off x="609480" y="1295280"/>
            <a:ext cx="7772400" cy="51912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276720" y="2743200"/>
            <a:ext cx="16761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905120" y="3657600"/>
            <a:ext cx="990360" cy="1523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495680" y="1523880"/>
            <a:ext cx="16765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724280" y="2362320"/>
            <a:ext cx="60984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ading Improvement Report for 2008-2009 School Year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809640" y="2050920"/>
            <a:ext cx="7648560" cy="439416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3581280" y="2209680"/>
            <a:ext cx="190512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828800" y="4038480"/>
            <a:ext cx="236232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800600" y="5334120"/>
            <a:ext cx="251460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Benchmark Scores for 2008-2009 School Yea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546120" y="1755720"/>
            <a:ext cx="7912080" cy="464832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3200400" y="1930320"/>
            <a:ext cx="220968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aimsweb.com/login.php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rcRect l="17188" t="13540" r="19532" b="72732"/>
          <a:stretch/>
        </p:blipFill>
        <p:spPr>
          <a:xfrm>
            <a:off x="38160" y="990720"/>
            <a:ext cx="9067680" cy="16002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3"/>
          <a:srcRect l="27343" t="27086" r="58596" b="33337"/>
          <a:stretch/>
        </p:blipFill>
        <p:spPr>
          <a:xfrm>
            <a:off x="1523880" y="2590920"/>
            <a:ext cx="1949400" cy="41148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1447920" y="2057400"/>
            <a:ext cx="106668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mplementation: Part II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inuous Improvemen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Manua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ly Timeline ---- meetings, te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cols and Task L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 Based Interven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-304920" y="57240"/>
            <a:ext cx="9258480" cy="6743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114640" y="2946240"/>
            <a:ext cx="4457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971640" y="4660920"/>
            <a:ext cx="674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029040" y="5003640"/>
            <a:ext cx="2628720" cy="8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ier 1 - Univers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Quality classroom instruction using research-based strategies with targeted student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029040" y="3289320"/>
            <a:ext cx="26287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ier 2 - Strateg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mall Group (10-12 students) AIS Classes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enchmarking three times / yea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524400" y="1003320"/>
            <a:ext cx="16761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ier 3 - Intens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mall group (4-6 students) AIS class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ogress Monitoring every 2-3 week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43040" y="5232240"/>
            <a:ext cx="2057400" cy="9144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t-Risk Stud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eacher analyzes data, refers student to IST and moves student to Tier 2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rot="12217800">
            <a:off x="-171360" y="397476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771560" y="3517920"/>
            <a:ext cx="1143000" cy="79992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ree data checks, regression/no progress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ST Proce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886360" y="5232240"/>
            <a:ext cx="2057400" cy="9144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n Target Stud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eacher analyzes data and keeps student in Tier 1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rot="12775200">
            <a:off x="742680" y="237456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772240" y="3517920"/>
            <a:ext cx="1143000" cy="6858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ree data check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ST Process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666880" y="2057400"/>
            <a:ext cx="1828800" cy="6858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gression /no progress, revise (repeat if not successful) --- consider referral to CS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800600" y="2057400"/>
            <a:ext cx="1371600" cy="6858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ogre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tinue with progra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ST Proce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rot="13111800">
            <a:off x="1885320" y="7740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rot="19954800">
            <a:off x="7143840" y="260316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rot="19942200">
            <a:off x="8172360" y="408924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5840" y="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estions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2990880" y="1695600"/>
            <a:ext cx="280044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RtI Resources/Link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www.nrcld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www.ncld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www.nasdse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http://www.rtinetwork.org/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www.aimsweb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www.interventioncentral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ssential Components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660760" y="1951200"/>
            <a:ext cx="3822120" cy="3822120"/>
            <a:chOff x="2660760" y="1951200"/>
            <a:chExt cx="3822120" cy="3822120"/>
          </a:xfrm>
        </p:grpSpPr>
        <p:sp>
          <p:nvSpPr>
            <p:cNvPr id="218" name="_s46089"/>
            <p:cNvSpPr/>
            <p:nvPr/>
          </p:nvSpPr>
          <p:spPr>
            <a:xfrm>
              <a:off x="3271680" y="1951200"/>
              <a:ext cx="2600640" cy="2600280"/>
            </a:xfrm>
            <a:custGeom>
              <a:avLst/>
              <a:gdLst>
                <a:gd name="textAreaLeft" fmla="*/ 0 w 2600640"/>
                <a:gd name="textAreaRight" fmla="*/ 2601000 w 2600640"/>
                <a:gd name="textAreaTop" fmla="*/ 0 h 2600280"/>
                <a:gd name="textAreaBottom" fmla="*/ 2600640 h 260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_s46094"/>
            <p:cNvSpPr/>
            <p:nvPr/>
          </p:nvSpPr>
          <p:spPr>
            <a:xfrm rot="5400000">
              <a:off x="3882600" y="2561760"/>
              <a:ext cx="2600280" cy="2600280"/>
            </a:xfrm>
            <a:custGeom>
              <a:avLst/>
              <a:gdLst>
                <a:gd name="textAreaLeft" fmla="*/ 0 w 2600280"/>
                <a:gd name="textAreaRight" fmla="*/ 2600640 w 2600280"/>
                <a:gd name="textAreaTop" fmla="*/ 0 h 2600280"/>
                <a:gd name="textAreaBottom" fmla="*/ 2600640 h 260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_s46090"/>
            <p:cNvSpPr/>
            <p:nvPr/>
          </p:nvSpPr>
          <p:spPr>
            <a:xfrm rot="10800000">
              <a:off x="3271680" y="3173040"/>
              <a:ext cx="2600640" cy="2600280"/>
            </a:xfrm>
            <a:custGeom>
              <a:avLst/>
              <a:gdLst>
                <a:gd name="textAreaLeft" fmla="*/ 0 w 2600640"/>
                <a:gd name="textAreaRight" fmla="*/ 2601000 w 2600640"/>
                <a:gd name="textAreaTop" fmla="*/ 0 h 2600280"/>
                <a:gd name="textAreaBottom" fmla="*/ 2600640 h 260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_s46092"/>
            <p:cNvSpPr/>
            <p:nvPr/>
          </p:nvSpPr>
          <p:spPr>
            <a:xfrm rot="16200000">
              <a:off x="2660760" y="2561760"/>
              <a:ext cx="2600280" cy="2600280"/>
            </a:xfrm>
            <a:custGeom>
              <a:avLst/>
              <a:gdLst>
                <a:gd name="textAreaLeft" fmla="*/ 0 w 2600280"/>
                <a:gd name="textAreaRight" fmla="*/ 2600640 w 2600280"/>
                <a:gd name="textAreaTop" fmla="*/ 0 h 2600280"/>
                <a:gd name="textAreaBottom" fmla="*/ 2600640 h 260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_s46087"/>
            <p:cNvSpPr/>
            <p:nvPr/>
          </p:nvSpPr>
          <p:spPr>
            <a:xfrm>
              <a:off x="5264280" y="2190600"/>
              <a:ext cx="97920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iered Instruction /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erven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_s46088"/>
            <p:cNvSpPr/>
            <p:nvPr/>
          </p:nvSpPr>
          <p:spPr>
            <a:xfrm>
              <a:off x="2901960" y="4556160"/>
              <a:ext cx="97956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amil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volvement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_s46091"/>
            <p:cNvSpPr/>
            <p:nvPr/>
          </p:nvSpPr>
          <p:spPr>
            <a:xfrm>
              <a:off x="2900520" y="2192400"/>
              <a:ext cx="97920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igh Quality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lassroom Instruc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_s46093"/>
            <p:cNvSpPr/>
            <p:nvPr/>
          </p:nvSpPr>
          <p:spPr>
            <a:xfrm>
              <a:off x="5265720" y="4554360"/>
              <a:ext cx="97956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ngoing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tudent Assessment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out the right building-level leadership, RtI will not realize the potential it has in fundamentally altering for the better both the delivery system and educational practice in our schools.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r. David P. Prasse, Professor and Dean of the School of Education, Loyola University Chicag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88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YSED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960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ril 2008 State Education Department Field Mem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horizes the use of RtI in the State'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to determine learning disabiliti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LD) an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, effective July 1, 201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all school districts have an RtI program in place as part of the process to determine if a student in grades K-4 is a student with a learning disability in the area of read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  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ffective on or after July 1, 2012, a school district shall not use the severe discrepancy criteria to determine that a student in kindergarten through grade four has a learning disability in the area of read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”   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[8 NYCRR section 200.4(j)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ior to the State’s Memo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 200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determining whether a child has a specific learning disability, a local agency may use a process that determines if the child responds to scientific research-based intervention as part of the evaluation procedures…” (H.R. 1350, 2004, section 614 (b)(6)(A&amp;B)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 rot="20844600">
            <a:off x="4267080" y="5257440"/>
            <a:ext cx="3562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Less stringen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5410080" y="4876920"/>
            <a:ext cx="7632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ackground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I Established I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nstant Member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IST Chairperson, Guidance Counselor, Speech Therapist, School Psychologist, Par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Varying Membe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eam Teachers (General and Special Education), Encore Teachers, Support Staff, Social Worker, Stud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Attached “Initial Referral Protocol and Task List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Image of Slide 22"/>
          <p:cNvPicPr/>
          <p:nvPr/>
        </p:nvPicPr>
        <p:blipFill>
          <a:blip r:embed="rId1"/>
          <a:srcRect l="16999" t="32667" r="25000" b="12669"/>
          <a:stretch/>
        </p:blipFill>
        <p:spPr>
          <a:xfrm>
            <a:off x="5410080" y="1295280"/>
            <a:ext cx="25909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Background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394160" y="1905120"/>
            <a:ext cx="2057400" cy="2819160"/>
          </a:xfrm>
          <a:prstGeom prst="rtTriangl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056680" y="1905120"/>
            <a:ext cx="2057400" cy="2819160"/>
          </a:xfrm>
          <a:prstGeom prst="rtTriangl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0" y="2286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er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2286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er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495680" y="30481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er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00400" y="3048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er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3962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er I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124080" y="3962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er I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29000" y="28954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419720" y="28954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37339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419720" y="37339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09680" y="51055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ool-w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0" y="5105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vidu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3124080" y="472392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257800" y="472392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486400" y="1981080"/>
            <a:ext cx="2590920" cy="58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Constant Members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IST Chairperson, Guidance Counselor, Speech Therapist, School Psychologist, Paren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Varying Members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: Team Teachers (General and Special Education), Encore Teachers, Support Staff, Social Worker, Studen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143000" y="617220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e Attached “Initial Referral Protocol and Task Lis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1371600"/>
            <a:ext cx="1904760" cy="49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.O.C.K. Committe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IS Team Meeting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PST Meeting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Guidance Meeting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ontent Literacy Committe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LC Guiding Coali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105520" y="1523880"/>
            <a:ext cx="3429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Well Established IS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04920" y="914400"/>
            <a:ext cx="4952880" cy="51055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914400"/>
            <a:ext cx="4952880" cy="51055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ier I: What is it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lity classroom instruc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in the general education classro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quality program incorporating stand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-based instructional strategies or mate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-going assessment of strengths and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-going professional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5:22:28Z</dcterms:created>
  <dc:creator>User</dc:creator>
  <dc:description/>
  <dc:language>en-US</dc:language>
  <cp:lastModifiedBy>User</cp:lastModifiedBy>
  <dcterms:modified xsi:type="dcterms:W3CDTF">2009-12-16T14:08:15Z</dcterms:modified>
  <cp:revision>30</cp:revision>
  <dc:subject/>
  <dc:title>Response to Intervention (RTI) &amp; The IST Process</dc:title>
</cp:coreProperties>
</file>